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1"/>
          </p:nvPr>
        </p:nvSpPr>
        <p:spPr>
          <a:xfrm>
            <a:off x="3885840" y="868680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72631-3123-4DA5-B819-E5A91C153E1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2A279-6538-4671-B650-B2EE07EED18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9D1C0-6BFA-44E6-A13E-A3B6D0A0558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7D1A6-E537-45C7-A6FB-3E782F507BF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986C9-5423-40C9-A985-72774EBF3A1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310D5-637A-46C9-A012-4D9D7CB4D55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A414E-122E-4E20-9648-DDE8108244F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C7930-C991-4F29-BEE0-F75FD52B60D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87D90-7A52-4E27-A318-19B1DCE3501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53835-5637-4589-9691-B8EE6F42E0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9EEB5-B579-48C2-B163-39293579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FD309-24B9-434D-8B42-ADBA9575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293D5-E659-47CB-BD96-01E80B0441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6B59A-8347-45A7-A05B-02FE6CF1D3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6A338-C934-4CA6-B6F1-EE126642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370FE-4EEC-4389-B023-570CB931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E18E5-2A98-40A1-91E1-4C0F7995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1609C-9DC6-4015-A898-B699F4E2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2E774-F527-4290-8777-DC0281B6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19406-0983-46C6-81DC-DADC5986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36F7A-AA18-43A1-ABA5-F52300DF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D1EC9-155F-4886-AB30-4B4ED000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FF708-E0D7-4AEA-8580-DDAC0309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AF5CF-0046-42C3-B538-CEABB76C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F575F-C45B-4774-8305-A9BA3F34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D41C6-9A2B-4BCB-BA0A-99FEA227AB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CD0E-1B52-4CBD-B2DD-B38CA072D0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FF44-8075-4BE0-B6F5-8B7F4DAC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B722-27A8-495E-A7CF-FDA35E0C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7FD7-D92C-4600-AECB-8C3B8CE5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6D22-1772-48A5-A72A-DC22811D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834D6-B465-43E7-B579-4627694F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12C4-A7D6-4C98-AA0F-12243A92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90A0-2625-4E12-BB4F-DAC4388B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8670-6614-41A1-97E3-BFE82051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6C4E-2BA3-4F84-A718-87B9A1FB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739F-B6BB-4272-8B13-6FCE41EA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2771-BB45-48E7-9D46-A37733E2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CE36-021B-4667-9342-E66CEB98D2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2689C4-0A0F-469F-BFC9-A9DA686B23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08107-BC79-4DF3-98B0-D21B779D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039D4-8EC0-4874-94B5-CF9FF2BB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C8FA3-29AA-4439-913D-0FDDD129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CA788E-C32B-492B-A2E5-C1308BF0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F5769C-6A24-4080-98FC-E39334FC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464A6-2C91-4BF8-866C-080C8253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CEB28-6C2A-4584-9CA8-A19F398F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86CBDA-C3F3-43F6-AD38-FC10B5B7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EAC87-9B9A-4D8F-9A25-C112020C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ECC76-F8A2-4540-94D5-7D6538D9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A5787-1DA9-4BB1-B04D-26183925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96076-38E7-4D94-8591-FE92A2208B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BB945A-F8A8-4A85-B03F-35F7E68AF4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8811E-5E39-457B-968C-D391A352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161BAA-6E56-494C-9616-9E55C414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E49D43-7D96-4535-B9D5-B1072149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5CC279-5387-46A5-8F55-2945B3D8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7F3107-BF2F-4CB0-A958-AE28BD9E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C83474-4C89-454E-A684-BE583DBB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EF7F0F-CA17-448A-B4BA-B51564BB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A7E764-555D-4479-889D-03FE324B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54B93E-03DC-48E2-87EB-912334D2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05678F-DAC7-43B5-A5BD-B5875E10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7A7F5E-5079-4DF2-ACD4-F49752EA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CAB0E-3343-4E13-B142-BDFC82E3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5C4D3E-A8F2-40FB-B39A-9DA70B45CA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9D42D-3312-40ED-82D9-6296F1F9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F25A3-7BB2-40B0-99AD-F56BC6B1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DBE53-AFC7-4DB0-A3E8-F59E7E3E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17640" y="5788080"/>
            <a:ext cx="3414960" cy="1079280"/>
            <a:chOff x="-17640" y="5788080"/>
            <a:chExt cx="3414960" cy="107928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1496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6120" y="6421320"/>
              <a:ext cx="16938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6240" y="6408720"/>
            <a:ext cx="19130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.07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571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79ECA-2F7E-4C36-9CAC-442474E220B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6726240" y="6408720"/>
            <a:ext cx="19130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3.07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647200" y="6408720"/>
            <a:ext cx="3571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57B098-AE9A-47F8-9487-C65DF0D6C408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-17640" y="5788080"/>
            <a:ext cx="3414960" cy="1079280"/>
            <a:chOff x="-17640" y="5788080"/>
            <a:chExt cx="3414960" cy="1079280"/>
          </a:xfrm>
        </p:grpSpPr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1496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76120" y="6421320"/>
              <a:ext cx="16938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6726240" y="6408720"/>
            <a:ext cx="19130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3.07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571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DBE47C-F37F-4E9B-8046-41C6B4282982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726240" y="6408720"/>
            <a:ext cx="19130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3.07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8"/>
          </p:nvPr>
        </p:nvSpPr>
        <p:spPr>
          <a:xfrm>
            <a:off x="8647200" y="6408720"/>
            <a:ext cx="3571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BB9C3F-4202-4252-B589-144BB251605B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-17640" y="5788080"/>
            <a:ext cx="3414960" cy="1079280"/>
            <a:chOff x="-17640" y="5788080"/>
            <a:chExt cx="3414960" cy="1079280"/>
          </a:xfrm>
        </p:grpSpPr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1496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76120" y="6421320"/>
              <a:ext cx="16938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8663040" y="4989600"/>
            <a:ext cx="183960" cy="228600"/>
          </a:xfrm>
          <a:custGeom>
            <a:avLst/>
            <a:gdLst>
              <a:gd name="textAreaLeft" fmla="*/ 0 w 183960"/>
              <a:gd name="textAreaRight" fmla="*/ 184320 w 183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477280" y="4989600"/>
            <a:ext cx="183960" cy="228600"/>
          </a:xfrm>
          <a:custGeom>
            <a:avLst/>
            <a:gdLst>
              <a:gd name="textAreaLeft" fmla="*/ 0 w 183960"/>
              <a:gd name="textAreaRight" fmla="*/ 184320 w 183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9"/>
          </p:nvPr>
        </p:nvSpPr>
        <p:spPr>
          <a:xfrm>
            <a:off x="6726240" y="6408720"/>
            <a:ext cx="19130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13.07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0"/>
          </p:nvPr>
        </p:nvSpPr>
        <p:spPr>
          <a:xfrm>
            <a:off x="8647200" y="6408720"/>
            <a:ext cx="3571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BA3004-FBE9-4E34-A31D-D47E5EBE1A87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336760" y="4267080"/>
            <a:ext cx="66549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</a:rPr>
              <a:t>Новоминское сельское посе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</a:rPr>
              <a:t>БЮДЖЕТ ДЛЯ ГРАЖДАН 2023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CC762-24B1-4D8D-86DD-7E63448D119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A9E83-9813-4A6D-A980-7A2CB669CF8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45047-68B9-40B0-972E-2EBD4FF347E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" y="533520"/>
            <a:ext cx="8229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47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готовлен на основе требований Бюджетного Кодекса Российской  Федерации, решения Совета Новоминского сельского поселения Каневского района «О бюджетном процессе в Новоминском сельском поселении Каневского района», иных законодательных,  нормативных правовых актов Российской Федерации, Краснодарского края и Совета Новоминского сельского поселения Каневского рай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98024-6924-4183-8E63-66944FD2336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857160"/>
            <a:ext cx="82296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По данным Управления Федерального казначейства по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Краснодарскому краю за 2023 год администрировало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доходы местного бюджета на общую сумм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 59 744,4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тыс. рублей, а именно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Налоговые и неналоговые доходы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48019,8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, в том числе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Налог на доходы физических лиц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9835,9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тыс.рублей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Единый сельскохозяйственный налог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521,5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Налог на имущество физических лиц –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2021,6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Земельный налог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7491,8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Денежные взыскания и штрафы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13,2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рублей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5040" indent="-24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Доходы от уплаты акцизов – на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7979,7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Безвозмездные поступления –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1724,6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 рублей, в том числе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8920" indent="-254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Субвенции бюджетам поселений на осуществление первичного воинского учета на территориях, где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осуществляют военные комиссариаты - на сумму 889,8 тыс. рублей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Субвенции бюджетам поселений на выполнение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передаваемых полномочий - на сумму 7,6 тыс.рублей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ежбюджетные трансферты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, передаваемые бюджетам муниципальных образований на осуществление части полномочий порешению вопросов местного значения в соответствии с заключенными соглашениями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- на сумму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5174,0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49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1EA64-FED0-4DFD-A9F7-DE2ECED1420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03040" y="171360"/>
            <a:ext cx="84772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609480" y="514440"/>
            <a:ext cx="8221680" cy="5684760"/>
            <a:chOff x="609480" y="514440"/>
            <a:chExt cx="8221680" cy="5684760"/>
          </a:xfrm>
        </p:grpSpPr>
        <p:sp>
          <p:nvSpPr>
            <p:cNvPr id="245" name=""/>
            <p:cNvSpPr/>
            <p:nvPr/>
          </p:nvSpPr>
          <p:spPr>
            <a:xfrm>
              <a:off x="609480" y="514440"/>
              <a:ext cx="6289920" cy="10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3516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именова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3516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казател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07320" y="514440"/>
              <a:ext cx="1625400" cy="10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3516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ссово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3516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полне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3516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 2023 го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540640" y="514440"/>
              <a:ext cx="28224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540640" y="1031400"/>
              <a:ext cx="2822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9480" y="1549080"/>
              <a:ext cx="628992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ходы, все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07320" y="1549080"/>
              <a:ext cx="162540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9744,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540640" y="1549080"/>
              <a:ext cx="28224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9480" y="2064600"/>
              <a:ext cx="62899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кцизы по подакцизным товарам (продукции)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3516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изводимым на территории Российской Федераци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07320" y="2064600"/>
              <a:ext cx="16254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979,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540640" y="2064600"/>
              <a:ext cx="2822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9480" y="2583720"/>
              <a:ext cx="62899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логи на прибыль, доход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07320" y="2583720"/>
              <a:ext cx="16254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540640" y="2583720"/>
              <a:ext cx="2822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9480" y="3098160"/>
              <a:ext cx="628992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диный сельскохозяйственный налог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07320" y="3098160"/>
              <a:ext cx="162540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21,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540640" y="3098160"/>
              <a:ext cx="28224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9480" y="3612240"/>
              <a:ext cx="628992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лог на имущество физических ли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07320" y="3612240"/>
              <a:ext cx="162540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21,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540640" y="3612240"/>
              <a:ext cx="28224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480" y="4129560"/>
              <a:ext cx="62899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емельный налог с организаци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907320" y="4129560"/>
              <a:ext cx="16254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170,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540640" y="4129560"/>
              <a:ext cx="2822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9480" y="4647240"/>
              <a:ext cx="628992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емельный налог с физических ли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07320" y="4647240"/>
              <a:ext cx="162540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21,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540640" y="4647240"/>
              <a:ext cx="28224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9480" y="5164200"/>
              <a:ext cx="62899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Штрафы, санкции, возмещение ущерб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07320" y="5164200"/>
              <a:ext cx="16254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3,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540640" y="5164200"/>
              <a:ext cx="2822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9480" y="5681880"/>
              <a:ext cx="628992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езвозмездные поступле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907320" y="5681880"/>
              <a:ext cx="162540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724,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540640" y="5681880"/>
              <a:ext cx="28224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07320" y="514440"/>
              <a:ext cx="0" cy="567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540640" y="514440"/>
              <a:ext cx="0" cy="567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9480" y="1549080"/>
              <a:ext cx="7923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9480" y="2064600"/>
              <a:ext cx="7923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9480" y="2583720"/>
              <a:ext cx="7923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9480" y="3098160"/>
              <a:ext cx="7923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9480" y="3612240"/>
              <a:ext cx="7923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9480" y="4129560"/>
              <a:ext cx="7923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9480" y="4647240"/>
              <a:ext cx="7923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9480" y="5164200"/>
              <a:ext cx="7923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9480" y="5681880"/>
              <a:ext cx="7923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9480" y="514440"/>
              <a:ext cx="0" cy="567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831160" y="1031400"/>
              <a:ext cx="0" cy="509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9480" y="514440"/>
              <a:ext cx="7923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9480" y="6199200"/>
              <a:ext cx="7923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20785-E747-48C0-9358-30FA8A9CE62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57200" y="1028880"/>
            <a:ext cx="8686800" cy="53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актическое исполнение и общие кассовы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бюджетных ассигнований за 2023 год по  муниципальному образованию Новоминское сельское поселение Каневско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йон составили 78051,5 тыс.руб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были осуществлены по следующим разделам бюджетной классификаци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100 «Общегосударственные вопросы»-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2856,8 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200 «Национальная оборона»- 889,8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300 «Национальная безопасность 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авоохранительная деятельность»- 0,0 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400 «Национальная экономика»- 15788,4 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500 «ЖКХ»- 7897,1 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700 «Образование»- 198,0 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800 «Культура или кинематография»- 20687,7 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000 «Социальная политика»- 1000,0 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100 «Физическая культура и спорт»- 8719,5 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ADF5C-BC79-4A7A-BA55-773EB146A2B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220680" y="452520"/>
            <a:ext cx="8477280" cy="64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89EF5-DA2F-4E61-8857-CBA6907433A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57200" y="457200"/>
            <a:ext cx="8229600" cy="58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CD84A-000F-4F96-A361-7D36D3864F6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D1359-F0E5-4D49-AA69-628BAAB6292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57200" y="457200"/>
            <a:ext cx="8229600" cy="58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B3048-3362-4791-8A5C-CFCCD89604F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logovik</dc:creator>
  <dc:description/>
  <dc:language>en-US</dc:language>
  <cp:lastModifiedBy>ГЫУК</cp:lastModifiedBy>
  <dcterms:modified xsi:type="dcterms:W3CDTF">2019-10-18T05:57:0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